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657-CC93-40D0-8F5D-613CFAAD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1CED-DE8E-47A0-B6E5-577BB591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161A-F553-48A3-91B3-5D7E210F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7928-36EA-43A9-9709-CCDCA015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0F30-2D28-429B-A067-E326CCFD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BA35-6274-4268-95D1-DE4948A0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6E2-6B41-49CA-94A1-149F5651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57D-A4A9-4D60-95D6-2922C98A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A361-3CB4-430F-9273-6094E813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E71B-1320-4207-AA6B-42E201DE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63C8-6727-4357-93D7-5B1EC1C0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42BB-D0C4-49CE-AE86-3CE8BFF3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7978-1CA4-47D1-972C-D7184A462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jet 30 heures : intelligence artifici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80520" y="54936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a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781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ésenté 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NET Ca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URIOT Thie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12680" y="5300640"/>
            <a:ext cx="57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ail réalisé sous la direction de Mr Jerzy KORCZ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51600" y="623736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S infor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hoix algorithm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70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étisation des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ems représenté par un e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ain de performance lors des tr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te de performance au moment de la resta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ure de donné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résentation des ensemble d’items fréquents dans un ar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908000" y="3957480"/>
            <a:ext cx="4686120" cy="2324160"/>
            <a:chOff x="1908000" y="3957480"/>
            <a:chExt cx="4686120" cy="2324160"/>
          </a:xfrm>
        </p:grpSpPr>
        <p:sp>
          <p:nvSpPr>
            <p:cNvPr id="80" name=""/>
            <p:cNvSpPr/>
            <p:nvPr/>
          </p:nvSpPr>
          <p:spPr>
            <a:xfrm flipH="1">
              <a:off x="4764960" y="4300200"/>
              <a:ext cx="22860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65320" y="3957480"/>
              <a:ext cx="5713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22520" y="395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4764960" y="5214960"/>
              <a:ext cx="36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08680" y="4300200"/>
              <a:ext cx="45720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22520" y="395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9720" y="395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36920" y="395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36720" y="48718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94280" y="48718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79520" y="48718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36920" y="48718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36720" y="57862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08000" y="3957480"/>
              <a:ext cx="2171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Ensemble : {1}, {2}, {3}, {4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8000" y="4871880"/>
              <a:ext cx="21715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Ensemble : {1,2}, {1,3}, {1,4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60280" y="5938920"/>
              <a:ext cx="21715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Ensemble :{1, 3, 4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herche des items fréqu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846200" y="5493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2400" y="1484280"/>
            <a:ext cx="5716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75160" y="14842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06800" y="14842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0" y="14842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9640" y="1484280"/>
            <a:ext cx="2171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nsembl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{1}, {2}, {3}, {4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94080" y="24922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1280" y="24922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36880" y="24922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24922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59640" y="2492280"/>
            <a:ext cx="2171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nsemb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{1,2}, {1,3}, {1,4} {3,4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27280" y="3645000"/>
            <a:ext cx="457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59640" y="3645000"/>
            <a:ext cx="2171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nsemble :{1, 3, 4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6200" y="1432080"/>
            <a:ext cx="304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2360" y="1360440"/>
            <a:ext cx="215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minimu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2,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19520" y="24922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24922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634920" y="1844640"/>
            <a:ext cx="505080" cy="64764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48360" y="1844640"/>
            <a:ext cx="936360" cy="64764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5080" y="1844640"/>
            <a:ext cx="431640" cy="64764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24922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62440" y="24922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24922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24922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635280" y="184464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6560" y="1844640"/>
            <a:ext cx="9381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3645000"/>
            <a:ext cx="457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59280" y="3645000"/>
            <a:ext cx="457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9280" y="2852640"/>
            <a:ext cx="0" cy="7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2852640"/>
            <a:ext cx="648000" cy="7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3645000"/>
            <a:ext cx="457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2852640"/>
            <a:ext cx="648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3645000"/>
            <a:ext cx="457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92360" y="2852640"/>
            <a:ext cx="648000" cy="79236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85240" y="4456080"/>
            <a:ext cx="60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i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 de la branche partant de 2 soit 5 ensem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herche des règles d’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46200" y="5493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7640" y="164772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minimum = 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206064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nsemble fréquent  : {1, 3, 4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42880" y="162864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Étap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19640" y="1628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2276640"/>
            <a:ext cx="1368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upport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{1,2,3}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{1,3 }  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{1,4 }  = 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{3,4 }  =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335772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{3 }  = 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2492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20720" y="19098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57440" y="191628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3440" y="19162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60000" y="162864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4 =&gt;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85440" y="162864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4 =&gt;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720" y="162864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3 =&gt;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76720" y="1628640"/>
            <a:ext cx="649440" cy="648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2560" y="15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45600" y="35002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=&gt; 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22000" y="35211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Étap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8160" y="4581360"/>
            <a:ext cx="47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i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 des règles 1 =&gt; 3,4 et 4 =&gt; 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erche des supports {1} et { 4 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61080" y="378936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06080" y="5493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é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2133720"/>
            <a:ext cx="763272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rganisation et répartition des tâ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oix d’implé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rchitecture du logic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tilisation : test et comparaison avec Weka et Associ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icultés rencontr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79080" y="54936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ite et 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2133720"/>
            <a:ext cx="7416720" cy="17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f attein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rsuite du développemen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or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jet 30 heures : intelligence artifici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59960" y="5493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R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68360" y="2781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ésenté 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NET Ca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URIOT Thie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12680" y="5300640"/>
            <a:ext cx="57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ail réalisé sous la direction de Mr Jerzy KORCZ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51600" y="623736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S infor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10360" y="54936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urquoi le datamining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700280"/>
            <a:ext cx="806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ersité des doma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nées sur les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érisation de textes, images, vidéo, vo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alogue en lign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des quantités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bre d’enregistrements se compte par million ou par milliard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nsions  importantes (trop de champs/attributs/caractéristiq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écessités économiqu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comme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haut degré de con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alisation, fidélisation de la clientè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63360" y="54936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bl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55736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règles d'association s'inscrivent dans ce qu'on appelle couramment le Data Mining c'est à dire le traitement de données. Il s'agit de dégager d'une base de données des liens de cause à effet sur certains éléments de cette b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lgorithmes utilisés vont par exemple nous apprendre que plus de 90% des clients d'un supermarché qui achètent du whisky achètent également des biscuits apéritif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résultats obtenus sont autant d'atouts pour la stratégie de l'entreprise qui devient alors en mesure d'attirer le client de façon plus effic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2560" y="5373720"/>
            <a:ext cx="44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éveloppement du logiciel MER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rmalisation du problè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4520" y="54936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éfinition des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1557360"/>
            <a:ext cx="806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 un élément de la base de donné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ans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 constituée de plusieurs i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'un ensemble d'items est  le nombre de transactions q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ennent cet ensem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ensemble d'items e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réqu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 son support est supérieur au support minim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fi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'une règle de la forme l2 =&gt; l1 – l2 avec l1 et l2 deux ensembles d'items et l2 inclus dans l1 se définit par le ratio support(l1) / support (l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règle e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al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 sa confiance est supérieure à la confiance minim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rmalisation du problè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93200" y="54936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écomposition du problè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1782720"/>
            <a:ext cx="806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erche des items fréquen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uver tous les ensembles d'items fréquents telles que leur représentation soit significative au sein de la b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des ensembles d’items supérieur au support minim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erche des règles d'associa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règles d'association peuvent être déduites des ensembles d’items fréqu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ance des règles supérieure à la confiance min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support et la confiance minimum sont paramétrés par l’utilis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herche des items fréqu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73080" y="549360"/>
            <a:ext cx="34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gorithme APriori (Agrawal 93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1782720"/>
            <a:ext cx="806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ncip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emière p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cherche des 1-itemsets fréqu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compteur par prod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'algorithme génère un candidat de taille k à partir de deux candidats de taille k-1 différents par le dernier élé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énération des candid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sse k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tage des k-itemsets fréquents candid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léction des bons candidat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herche des items fréqu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73080" y="549360"/>
            <a:ext cx="34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gorithme APriori (Agrawal 93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178272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éduction des ensembles d’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rot="10800000">
            <a:off x="1116000" y="4581000"/>
            <a:ext cx="504720" cy="360360"/>
          </a:xfrm>
          <a:custGeom>
            <a:avLst/>
            <a:gdLst>
              <a:gd name="textAreaLeft" fmla="*/ 360 w 504720"/>
              <a:gd name="textAreaRight" fmla="*/ 505440 w 5047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45" stAng="10800000" swAng="5400000"/>
                <a:lnTo>
                  <a:pt x="12427" y="2915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243"/>
                </a:lnTo>
                <a:lnTo>
                  <a:pt x="12427" y="9243"/>
                </a:lnTo>
                <a:arcTo wR="6099" hR="2917" stAng="16200000" swAng="-5400000"/>
                <a:lnTo>
                  <a:pt x="632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rot="10800000">
            <a:off x="1116000" y="3139560"/>
            <a:ext cx="504720" cy="360360"/>
          </a:xfrm>
          <a:custGeom>
            <a:avLst/>
            <a:gdLst>
              <a:gd name="textAreaLeft" fmla="*/ 360 w 504720"/>
              <a:gd name="textAreaRight" fmla="*/ 505440 w 5047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45" stAng="10800000" swAng="5400000"/>
                <a:lnTo>
                  <a:pt x="12427" y="2915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243"/>
                </a:lnTo>
                <a:lnTo>
                  <a:pt x="12427" y="9243"/>
                </a:lnTo>
                <a:arcTo wR="6099" hR="2917" stAng="16200000" swAng="-5400000"/>
                <a:lnTo>
                  <a:pt x="632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84360" y="3068640"/>
            <a:ext cx="74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 un ensemble n'est pas fréquent alors il est inutile de chercher des sur-ensembles à partir de cet ensem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84360" y="458784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s de la création d'un ensemble d'items de taille k, cet ensemble sera créé si tous ses sous-ensembles sont déjà fréqu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396720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ègle 2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 ensemble d'items peut être fréquent si tous ses sous ensembles sont déjà fréquent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22050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ègle 1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 un ensemble d'items n'est pas fréquent alors tous ces sur-ensembles ne sont pas fréqu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herche des items fréqu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73080" y="549360"/>
            <a:ext cx="34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gorithme APriori (Agrawal 93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1782720"/>
            <a:ext cx="80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énération des candid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s ensembles d'items candidats d'un niveau k sont générés à partir des ensembles d'items fréquents de niveau 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 ensemble d’items est candidat si il vérifie la règle n°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 des supports pour une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rcours de toutes les transactions de l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Élimination des candid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herche des règles d’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05360" y="54936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1782720"/>
            <a:ext cx="806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rtir des ensembles d’items fréqu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ur tous les sous-ensembles, on renvoi des règles de la forme            a =&gt; (l – a) avec confiance de la règle = support (l)/support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éduction du nombre de règles à calc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ègle : Si une règle a =&gt; (l-a) a une confiance insuffisante alors les règles a –b =&gt; (l-a+b) auront également une confiance insuffis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6:06:09Z</dcterms:created>
  <dc:creator>camsss</dc:creator>
  <dc:description/>
  <dc:language>en-US</dc:language>
  <cp:lastModifiedBy>Thierry</cp:lastModifiedBy>
  <dcterms:modified xsi:type="dcterms:W3CDTF">2003-12-02T01:04:06Z</dcterms:modified>
  <cp:revision>31</cp:revision>
  <dc:subject/>
  <dc:title>Diapositive 1</dc:title>
</cp:coreProperties>
</file>