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F9D0-E1B7-46F7-AB84-7A2AE2D61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6267-13E3-453C-AC7C-46A472DD8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05A6-426E-4AAE-8D9F-F51486EDE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FCDE-9282-486C-A686-1965C9A43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4056-D075-4951-85D6-BD6864560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C722-41A7-42DB-9BC0-53EC890FD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8909-4D0D-4F40-A5B5-A6E877D44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9EE6-E430-49C3-9984-BC5D9643A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66D0-A78B-41FC-903A-F8E1E0910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13E5-10E0-4747-A047-EB2510A5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2CF4-ADAF-4789-86CA-8BD4D998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A815-C4F9-4953-8E73-989DE4BB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D9316-82AA-4422-BC7F-E60A72BED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15920"/>
            <a:ext cx="87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rojet 30 heures : intelligence artifici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80520" y="54936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atam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781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ésenté p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RNET Ca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URIOT Thier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12680" y="5300640"/>
            <a:ext cx="573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vail réalisé sous la direction de Mr Jerzy KORCZ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951600" y="6237360"/>
            <a:ext cx="21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S informa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24000" y="115920"/>
            <a:ext cx="87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hoix algorithmi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1197000"/>
            <a:ext cx="806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99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crétisation des i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tems représenté par un ent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ain de performance lors des tr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erte de performance au moment de la resta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9999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ucture de donné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présentation des ensemble d’items fréquents dans un ar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9999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908000" y="3957480"/>
            <a:ext cx="4686120" cy="2324160"/>
            <a:chOff x="1908000" y="3957480"/>
            <a:chExt cx="4686120" cy="2324160"/>
          </a:xfrm>
        </p:grpSpPr>
        <p:sp>
          <p:nvSpPr>
            <p:cNvPr id="80" name=""/>
            <p:cNvSpPr/>
            <p:nvPr/>
          </p:nvSpPr>
          <p:spPr>
            <a:xfrm flipH="1">
              <a:off x="4764960" y="4300200"/>
              <a:ext cx="22860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65320" y="3957480"/>
              <a:ext cx="57132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222520" y="3957480"/>
              <a:ext cx="4572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4764960" y="5214960"/>
              <a:ext cx="36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08680" y="4300200"/>
              <a:ext cx="45720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222520" y="3957480"/>
              <a:ext cx="4572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79720" y="3957480"/>
              <a:ext cx="4572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136920" y="3957480"/>
              <a:ext cx="4572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36720" y="4871880"/>
              <a:ext cx="4572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994280" y="4871880"/>
              <a:ext cx="4572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079520" y="4871880"/>
              <a:ext cx="4572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136920" y="4871880"/>
              <a:ext cx="4572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36720" y="5786280"/>
              <a:ext cx="4572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908000" y="3957480"/>
              <a:ext cx="21715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</a:rPr>
                <a:t>Ensemble : {1}, {2}, {3}, {4}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908000" y="4871880"/>
              <a:ext cx="217152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</a:rPr>
                <a:t>Ensemble : {1,2}, {1,3}, {1,4}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060280" y="5938920"/>
              <a:ext cx="217152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</a:rPr>
                <a:t>Ensemble :{1, 3, 4}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24000" y="115920"/>
            <a:ext cx="87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cherche des items fréqu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846200" y="54936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e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92400" y="1484280"/>
            <a:ext cx="57168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75160" y="1484280"/>
            <a:ext cx="45720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906800" y="1484280"/>
            <a:ext cx="45720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64000" y="1484280"/>
            <a:ext cx="45720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659640" y="1484280"/>
            <a:ext cx="2171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Ensembl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{1}, {2}, {3}, {4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94080" y="2492280"/>
            <a:ext cx="45720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cc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51280" y="2492280"/>
            <a:ext cx="45720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cc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36880" y="2492280"/>
            <a:ext cx="45720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cc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867280" y="2492280"/>
            <a:ext cx="45720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cc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659640" y="2492280"/>
            <a:ext cx="2171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Ensemble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{1,2}, {1,3}, {1,4} {3,4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627280" y="3645000"/>
            <a:ext cx="45720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659640" y="3645000"/>
            <a:ext cx="2171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Ensemble :{1, 3, 4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6200" y="1432080"/>
            <a:ext cx="304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2360" y="1360440"/>
            <a:ext cx="2158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minimum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3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2,3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19520" y="2492280"/>
            <a:ext cx="45720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cc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076720" y="2492280"/>
            <a:ext cx="45720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cc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3634920" y="1844640"/>
            <a:ext cx="505080" cy="64764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48360" y="1844640"/>
            <a:ext cx="936360" cy="64764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45080" y="1844640"/>
            <a:ext cx="431640" cy="64764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51280" y="2492280"/>
            <a:ext cx="45720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62440" y="2492280"/>
            <a:ext cx="45720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19640" y="2492280"/>
            <a:ext cx="45720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867280" y="2492280"/>
            <a:ext cx="45720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635280" y="1844640"/>
            <a:ext cx="5032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46560" y="1844640"/>
            <a:ext cx="9381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24360" y="3645000"/>
            <a:ext cx="45720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59280" y="3645000"/>
            <a:ext cx="45720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59280" y="2852640"/>
            <a:ext cx="0" cy="7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92360" y="2852640"/>
            <a:ext cx="648000" cy="7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24360" y="3645000"/>
            <a:ext cx="45720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92360" y="2852640"/>
            <a:ext cx="64800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24360" y="3645000"/>
            <a:ext cx="45720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cc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92360" y="2852640"/>
            <a:ext cx="648000" cy="79236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85240" y="4456080"/>
            <a:ext cx="600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i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énération de la branche partant de 2 soit 5 ensem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24000" y="115920"/>
            <a:ext cx="87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cherche des règles d’asso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846200" y="54936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e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37640" y="1647720"/>
            <a:ext cx="25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minimum = 0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5640" y="2060640"/>
            <a:ext cx="21718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Ensemble fréquent  : {1, 3, 4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742880" y="162864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Étap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19640" y="162864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26920" y="2276640"/>
            <a:ext cx="1368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Support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{1,2,3} =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{1,3 }   =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{1,4 }  = 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{3,4 }  = 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26920" y="335772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{3 }  = 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64000" y="24922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20720" y="190980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57440" y="191628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33440" y="191628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= 2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60000" y="162864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4 =&gt;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085440" y="162864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,4 =&gt;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48720" y="162864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3 =&gt;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076720" y="1628640"/>
            <a:ext cx="649440" cy="64800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92560" y="1576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845600" y="35002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=&gt; 1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722000" y="352116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Étap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78160" y="4581360"/>
            <a:ext cx="47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i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énération des règles 1 =&gt; 3,4 et 4 =&gt; 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herche des supports {1} et { 4 }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61080" y="378936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24000" y="115920"/>
            <a:ext cx="87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606080" y="54936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éal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00000" y="2133720"/>
            <a:ext cx="7632720" cy="29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99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rganisation et répartition des tâ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hoix d’implé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rchitecture du logici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tilisation : test et comparaison avec Weka et Associ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ifficultés rencontr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24000" y="115920"/>
            <a:ext cx="87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79080" y="549360"/>
            <a:ext cx="13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uite et F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71640" y="2133720"/>
            <a:ext cx="7416720" cy="17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9999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f attein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9999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ursuite du développemen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9999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or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24000" y="115920"/>
            <a:ext cx="87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rojet 30 heures : intelligence artifici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959960" y="54936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R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268360" y="2781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ésenté p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RNET Ca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URIOT Thier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12680" y="5300640"/>
            <a:ext cx="573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vail réalisé sous la direction de Mr Jerzy KORCZ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951600" y="6237360"/>
            <a:ext cx="21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S informa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24000" y="115920"/>
            <a:ext cx="87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10360" y="549360"/>
            <a:ext cx="27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ourquoi le datamining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1700280"/>
            <a:ext cx="8064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versité des doma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nées sur les 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érisation de textes, images, vidéo, vo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alogue en ligne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ndes quantités de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mbre d’enregistrements se compte par million ou par milliard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ensions  importantes (trop de champs/attributs/caractéristiqu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écessités économiqu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comme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haut degré de concur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nalisation, fidélisation de la clientè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24000" y="115920"/>
            <a:ext cx="87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263360" y="549360"/>
            <a:ext cx="16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obléma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1280" y="1557360"/>
            <a:ext cx="806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règles d'association s'inscrivent dans ce qu'on appelle couramment le Data Mining c'est à dire le traitement de données. Il s'agit de dégager d'une base de données des liens de cause à effet sur certains éléments de cette ba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algorithmes utilisés vont par exemple nous apprendre que plus de 90% des clients d'un supermarché qui achètent du whisky achètent également des biscuits apéritif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résultats obtenus sont autant d'atouts pour la stratégie de l'entreprise qui devient alors en mesure d'attirer le client de façon plus effic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82560" y="5373720"/>
            <a:ext cx="442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éveloppement du logiciel MERJ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24000" y="115920"/>
            <a:ext cx="87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ormalisation du problè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374520" y="549360"/>
            <a:ext cx="25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éfinition des conce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4360" y="1557360"/>
            <a:ext cx="806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te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st un élément de la base de donné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ransa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st constituée de plusieurs ite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uppo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'un ensemble d'items est  le nombre de transactions qu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ennent cet ensem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ensemble d'items es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réqu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 son support est supérieur au support minim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fi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'une règle de la forme l2 =&gt; l1 – l2 avec l1 et l2 deux ensembles d'items et l2 inclus dans l1 se définit par le ratio support(l1) / support (l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e règle es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ali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 sa confiance est supérieure à la confiance minim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24000" y="115920"/>
            <a:ext cx="87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ormalisation du problè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893200" y="54936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écomposition du problè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1782720"/>
            <a:ext cx="8064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herche des items fréquent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ouver tous les ensembles d'items fréquents telles que leur représentation soit significative au sein de la ba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des ensembles d’items supérieur au support minim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herche des règles d'associatio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règles d'association peuvent être déduites des ensembles d’items fréqu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ance des règles supérieure à la confiance minim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support et la confiance minimum sont paramétrés par l’utilis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24000" y="115920"/>
            <a:ext cx="87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cherche des items fréqu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73080" y="549360"/>
            <a:ext cx="34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gorithme APriori (Agrawal 93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1782720"/>
            <a:ext cx="8064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incip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emière pa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cherche des 1-itemsets fréqu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n compteur par produ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'algorithme génère un candidat de taille k à partir de deux candidats de taille k-1 différents par le dernier élé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énération des candid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asse k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mptage des k-itemsets fréquents candida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éléction des bons candidats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24000" y="115920"/>
            <a:ext cx="87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cherche des items fréqu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473080" y="549360"/>
            <a:ext cx="34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gorithme APriori (Agrawal 93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1782720"/>
            <a:ext cx="806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éduction des ensembles d’i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rot="10800000">
            <a:off x="1116000" y="4581000"/>
            <a:ext cx="504720" cy="360360"/>
          </a:xfrm>
          <a:custGeom>
            <a:avLst/>
            <a:gdLst>
              <a:gd name="textAreaLeft" fmla="*/ 360 w 504720"/>
              <a:gd name="textAreaRight" fmla="*/ 505440 w 5047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45" stAng="10800000" swAng="5400000"/>
                <a:lnTo>
                  <a:pt x="12427" y="2915"/>
                </a:lnTo>
                <a:lnTo>
                  <a:pt x="12427" y="0"/>
                </a:lnTo>
                <a:lnTo>
                  <a:pt x="21600" y="6079"/>
                </a:lnTo>
                <a:lnTo>
                  <a:pt x="12427" y="12158"/>
                </a:lnTo>
                <a:lnTo>
                  <a:pt x="12427" y="9243"/>
                </a:lnTo>
                <a:lnTo>
                  <a:pt x="12427" y="9243"/>
                </a:lnTo>
                <a:arcTo wR="6099" hR="2917" stAng="16200000" swAng="-5400000"/>
                <a:lnTo>
                  <a:pt x="632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rot="10800000">
            <a:off x="1116000" y="3139560"/>
            <a:ext cx="504720" cy="360360"/>
          </a:xfrm>
          <a:custGeom>
            <a:avLst/>
            <a:gdLst>
              <a:gd name="textAreaLeft" fmla="*/ 360 w 504720"/>
              <a:gd name="textAreaRight" fmla="*/ 505440 w 5047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45" stAng="10800000" swAng="5400000"/>
                <a:lnTo>
                  <a:pt x="12427" y="2915"/>
                </a:lnTo>
                <a:lnTo>
                  <a:pt x="12427" y="0"/>
                </a:lnTo>
                <a:lnTo>
                  <a:pt x="21600" y="6079"/>
                </a:lnTo>
                <a:lnTo>
                  <a:pt x="12427" y="12158"/>
                </a:lnTo>
                <a:lnTo>
                  <a:pt x="12427" y="9243"/>
                </a:lnTo>
                <a:lnTo>
                  <a:pt x="12427" y="9243"/>
                </a:lnTo>
                <a:arcTo wR="6099" hR="2917" stAng="16200000" swAng="-5400000"/>
                <a:lnTo>
                  <a:pt x="632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84360" y="3068640"/>
            <a:ext cx="7451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i un ensemble n'est pas fréquent alors il est inutile de chercher des sur-ensembles à partir de cet ensem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84360" y="4587840"/>
            <a:ext cx="74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s de la création d'un ensemble d'items de taille k, cet ensemble sera créé si tous ses sous-ensembles sont déjà fréqu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3967200"/>
            <a:ext cx="748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99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ègle 2 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n ensemble d'items peut être fréquent si tous ses sous ensembles sont déjà fréquent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55640" y="220500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ègle 1 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i un ensemble d'items n'est pas fréquent alors tous ces sur-ensembles ne sont pas fréqu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24000" y="115920"/>
            <a:ext cx="87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cherche des items fréqu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73080" y="549360"/>
            <a:ext cx="34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gorithme APriori (Agrawal 93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4360" y="1782720"/>
            <a:ext cx="8064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99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énération des candid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es ensembles d'items candidats d'un niveau k sont générés à partir des ensembles d'items fréquents de niveau 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n ensemble d’items est candidat si il vérifie la règle n°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9999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9999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 des supports pour une trans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rcours de toutes les transactions de la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Élimination des candid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24000" y="115920"/>
            <a:ext cx="87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cherche des règles d’asso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05360" y="54936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éné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4360" y="1782720"/>
            <a:ext cx="8064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99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artir des ensembles d’items fréqu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our tous les sous-ensembles, on renvoi des règles de la forme            a =&gt; (l – a) avec confiance de la règle = support (l)/support 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9999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éduction du nombre de règles à calcu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ègle : Si une règle a =&gt; (l-a) a une confiance insuffisante alors les règles a –b =&gt; (l-a+b) auront également une confiance insuffisa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30T16:06:09Z</dcterms:created>
  <dc:creator>camsss</dc:creator>
  <dc:description/>
  <dc:language>en-US</dc:language>
  <cp:lastModifiedBy>Thierry</cp:lastModifiedBy>
  <dcterms:modified xsi:type="dcterms:W3CDTF">2003-12-02T07:52:58Z</dcterms:modified>
  <cp:revision>31</cp:revision>
  <dc:subject/>
  <dc:title>Diapositive 1</dc:title>
</cp:coreProperties>
</file>