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0912-A2AF-4EE2-ABC3-949FBB28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0D04-EBBD-43AE-B1EB-0448453D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A91A-5B24-46CE-918B-023CBF8F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B278-3A87-4C02-B523-418D021F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195-05EF-472A-9CF5-94054C1F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B9FB-21E7-4281-826D-D26F02D3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D53-A28F-4AF3-BD0D-ACEE6878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0683-1ED3-466B-BED9-DED55F0E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2651-78AD-460E-BCAE-D6BAEAD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A787-D83E-4001-987C-AB058273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457-5AE0-4467-9970-266CAAF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9137-96BB-418F-BE47-E3928CD1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2DBE-A630-4756-BE8F-7D8D63EA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595D-581F-4CE2-9AB0-F3942A45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6FD6-FFF4-4B70-8616-9BADCFE7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BABB-BDCF-4313-B998-6910B664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4F8-DF45-42F4-BCBE-0253D88B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3EE8-7393-47E8-987F-66DEC961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22B1-F38A-4901-BBED-8B0EF1DD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292F-13A8-4478-91C5-3A4EDEC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2B2D-03CE-4B3C-BC1C-FA94AAC0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A2B3-158A-4157-819E-7DE66F44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72F0-F504-4E3C-BC80-8B0158EC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3882-ADD2-4E5A-9E07-834346D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C287-61EE-4D28-B465-617ED0B286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B164-ADC4-4D52-A5A5-05E779C000B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elligence artificielle et base de données :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traction de règles d’association </a:t>
            </a:r>
            <a:br>
              <a:rPr sz="24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MERJA</a:t>
            </a: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v1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4121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RNET C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RIOT Thi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S 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80360" y="4653000"/>
            <a:ext cx="1428840" cy="100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630864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vail réalisé sous la direction de Mr Jerzy KORCZ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émonstration du logic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797120"/>
            <a:ext cx="52945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nexion aux SGBD permet le traitement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en plus proches de la réalité (cf. Financial Datas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mbreuses améliora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rétisation des données num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uveaux algorithmes plus per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iérarchisation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7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1471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ègles d’association (Rapp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I Java Database Connectivity (JD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veloppement (fonctions réalis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se de données financière (PKDD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monstration du logic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15920"/>
            <a:ext cx="82915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mportance du stockage des données dans divers domain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onnées sur les cl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mérisation de textes, images, vidéo, vo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talogue en lign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breux SGBD : Access, MySQL, Oracl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 déjà réalisée lors du projet I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raction de règles d’association sur des données de fich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du projet BD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açage avec des BDD à l’aide de l’API 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ègles d’association (Rapp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90% des clients d'un supermarché qui achètent du whisky achètent également des biscuits apéri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cherche des items fréqu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ouver tous les ensembles d'items fréquents telles que leur représentation soit significative au sein de la 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cherche des règles d'associ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règles d'association peuvent être déduites des ensembles d’items fréqu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PI Java Database Connectivity (JDBC)</a:t>
            </a:r>
            <a:br>
              <a:rPr sz="32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chitectu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728720"/>
            <a:ext cx="8532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83160" y="1335240"/>
            <a:ext cx="4351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PI Java Database Connectivity (JDBC)</a:t>
            </a:r>
            <a:br>
              <a:rPr sz="32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44560" y="2063880"/>
            <a:ext cx="7453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nexion et ouverture d’un B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d’une class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gement dynamique de drivers 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nêtre permettant de spécifier l’URL, le user et le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cture des données (requêtes 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lection d’une table et de plusieurs ch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écification direct d’une requêt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ace TransactionsReader permettant de faciliter le dialogue avec          l’algorithme Apr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ase de données financière (PKDD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28640" y="1565280"/>
            <a:ext cx="56073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ase de données financière (PKDD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étraitements effectu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duction de nombre d’enregist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d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jout de la clé étrangère loan_id dans toutes le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jout d’un certain nombre de champs (discrétisation des données numér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ègles obtenu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08:49Z</dcterms:created>
  <dc:creator>Yeri</dc:creator>
  <dc:description/>
  <dc:language>en-US</dc:language>
  <cp:lastModifiedBy>SEC</cp:lastModifiedBy>
  <dcterms:modified xsi:type="dcterms:W3CDTF">2004-02-06T09:32:39Z</dcterms:modified>
  <cp:revision>67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